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317-1BFD-43D1-927F-D4DA454F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B42-640D-4FA6-BF36-7E1D539D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DDB-B5AD-4410-929B-F0FC16AD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ACD-4527-49B4-8C5A-04C42252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BB8-FA44-4E12-AA5E-CDFB19E4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3CCE-355C-4169-9A4D-2B8CD71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8AE-4DC9-4276-9974-425F580C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BA40-7EBE-4ABE-A72D-010EBB53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0FD1-1F1B-4902-99A4-5792894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73F5-5971-4631-83B1-C3599F8A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356-5BD1-4989-9CDD-46B346A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530-F2D9-4F22-ABEA-D69D580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2A9-71C3-47A5-98FB-C38FE3E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84F-ABF0-4CCA-B492-A9DB78E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04D-F3A5-4777-80C9-41417FB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2C8C-7484-4E23-BCE9-673B322C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C2C4-A540-4A20-9A49-DAB03288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250-B453-4D6C-9A00-AB3F066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055-ADE3-4F67-A685-6A29B35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1FD-E719-4AD0-8DFA-4DD026F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67B-E32F-4506-A348-679005CC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D7E-27B7-42C6-8C62-0967A1A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B5C-B790-4A79-9619-3447C4C1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3BB-7090-4945-BF8E-F93FECC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349-17CD-444F-97BF-9D418BF6F30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96D5-53F6-444A-9E1A-1E4F492BEF5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520" y="2349000"/>
            <a:ext cx="6913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nagement Updat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anuary 27th, 2006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rand launch – translate the positive recognition from the outside to the ins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5800" y="1360080"/>
            <a:ext cx="90979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irst time two press events were held simultaneously on two continents: Berlin/Europe &amp; Beijing/Asia, with live-streaming for global audience internally and externall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With an estimated number of approx. 1.000 clippings in all major newspapers, (e.g. Wall Street Journal, Financial Times etc.) we could reach 50 to 100 Mio. people worldwid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dia show positive feedback – so far, no negative coverage has been generated from the la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w products receive positive feedback and are listed from all major op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488880" y="5516640"/>
            <a:ext cx="9097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b15"/>
                </a:solidFill>
                <a:latin typeface="Minion"/>
                <a:ea typeface="文鼎中黑"/>
              </a:rPr>
              <a:t>Instead of focusing on negative messages, people should be proud of the new brand and the products we have 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inion"/>
              </a:rPr>
              <a:t>Let’s Enterprise, Again !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212868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920" y="1203120"/>
            <a:ext cx="93643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We are not a charity” - we are hired to make profit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Seek success, create a profit zone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All our efforts on customers and business opportunity.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No excuses, no blaming, no politics. Just do it!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ome together and work as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team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ulture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mind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direction and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system for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ommon goal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ustomers won‘t wait… and competitors won‘t stand still… - so just do it right away… don‘t wait… move fast!</a:t>
            </a:r>
            <a:br>
              <a:rPr sz="3000"/>
            </a:br>
            <a:r>
              <a:rPr b="0" lang="en-US" sz="3000" spc="-1" strike="noStrike">
                <a:solidFill>
                  <a:srgbClr val="fd1b15"/>
                </a:solidFill>
                <a:latin typeface="Minion"/>
              </a:rPr>
              <a:t>Go! Go! Go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4520" y="549360"/>
            <a:ext cx="4176720" cy="5543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70320" y="549360"/>
            <a:ext cx="4462560" cy="5543640"/>
          </a:xfrm>
          <a:custGeom>
            <a:avLst/>
            <a:gdLst>
              <a:gd name="textAreaLeft" fmla="*/ 360 w 4462560"/>
              <a:gd name="textAreaRight" fmla="*/ 4463280 w 446256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5760" y="1268280"/>
            <a:ext cx="11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5360" y="126828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25296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ec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33680" y="3252960"/>
            <a:ext cx="28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cell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06040" y="5197320"/>
            <a:ext cx="1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51973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et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2349360"/>
            <a:ext cx="2087640" cy="201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32160" y="2308320"/>
            <a:ext cx="12970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Eike Boettner</cp:lastModifiedBy>
  <dcterms:modified xsi:type="dcterms:W3CDTF">2006-01-27T14:44:05Z</dcterms:modified>
  <cp:revision>108</cp:revision>
  <dc:subject/>
  <dc:title>PowerPoint 簡報</dc:title>
</cp:coreProperties>
</file>